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524-7541-40BC-B822-82A4DAD7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45E-3782-4FF4-B41C-E64B6D7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9B9-FE44-4B63-B3E5-CA73B789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FE3-BA67-45E2-8F4B-69FA3866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0DE-A53F-48AA-9BA5-BC53512B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2C1-1BD7-4465-97ED-EB58FBC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899-5150-417E-BD3E-141D8A83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0F6-4A71-4AF2-8668-BE87778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562-3876-4149-8C8D-D6C25BF1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CB4-01F4-4F0F-934C-F542712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049-0603-44B6-B13C-13650F7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303-2315-4A1B-9799-FE37B35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0C2-4ACC-4E7E-A673-3F4039EDF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urple Mon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urple_monkey.gif"/>
          <p:cNvPicPr/>
          <p:nvPr/>
        </p:nvPicPr>
        <p:blipFill>
          <a:blip r:embed="rId1"/>
          <a:stretch/>
        </p:blipFill>
        <p:spPr>
          <a:xfrm>
            <a:off x="1752480" y="1471680"/>
            <a:ext cx="6096240" cy="538632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524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ll live toge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a house in a tr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treehouse-2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ouse is ye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Placeholder 4" descr="SchoolBusUSA.jpg"/>
          <p:cNvPicPr/>
          <p:nvPr/>
        </p:nvPicPr>
        <p:blipFill>
          <a:blip r:embed="rId1"/>
          <a:srcRect l="5866" t="0" r="58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en goes to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HK_Disneyland_tree_house_by_Dave_Q.jpg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chool is ora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n has many friends at schoo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Placeholder 4" descr="greenchuck.jpg"/>
          <p:cNvPicPr/>
          <p:nvPr/>
        </p:nvPicPr>
        <p:blipFill>
          <a:blip r:embed="rId1"/>
          <a:srcRect l="0" t="1026" r="0" b="10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l have green shoes that they w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n was the only one who didn’t have green sho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Documents and Settings\lsabey\Local Settings\Temporary Internet Files\Content.IE5\XSJY32GK\MPj04364170000[1].jpg"/>
          <p:cNvPicPr/>
          <p:nvPr/>
        </p:nvPicPr>
        <p:blipFill>
          <a:blip r:embed="rId2"/>
          <a:stretch/>
        </p:blipFill>
        <p:spPr>
          <a:xfrm>
            <a:off x="2438280" y="1828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Placeholder 4" descr="untitled.bmp"/>
          <p:cNvPicPr/>
          <p:nvPr/>
        </p:nvPicPr>
        <p:blipFill>
          <a:blip r:embed="rId1"/>
          <a:srcRect l="2795" t="0" r="27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 friends made fun of h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Placeholder 4" descr="Sad_Face_by_hornsholdmyhalo.jpg"/>
          <p:cNvPicPr/>
          <p:nvPr/>
        </p:nvPicPr>
        <p:blipFill>
          <a:blip r:embed="rId1"/>
          <a:srcRect l="0" t="14846" r="0" b="1484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en cried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90512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re is a monk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she got home, she told her par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Placeholder 6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3378240" y="380880"/>
            <a:ext cx="3860640" cy="312444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Placeholder 4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ld her that she doesn’t have to have ever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Placeholder 4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Jen got back to school she told her friends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Placeholder 4" descr="cartoon_liger_and_friends_greeting_card-p137419571812524776q0yk_400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opped making fun of Jen and they were all friend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he is </a:t>
            </a:r>
            <a:r>
              <a:rPr b="0" lang="en-US" sz="6600" spc="-1" strike="noStrike">
                <a:solidFill>
                  <a:srgbClr val="6600cc"/>
                </a:solidFill>
                <a:latin typeface="Calibri"/>
              </a:rPr>
              <a:t>purp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name is 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urple_monkey.gif"/>
          <p:cNvPicPr/>
          <p:nvPr/>
        </p:nvPicPr>
        <p:blipFill>
          <a:blip r:embed="rId1"/>
          <a:srcRect l="0" t="7559" r="0" b="7559"/>
          <a:stretch/>
        </p:blipFill>
        <p:spPr>
          <a:xfrm>
            <a:off x="1676520" y="228600"/>
            <a:ext cx="6192720" cy="4648320"/>
          </a:xfrm>
          <a:prstGeom prst="rect">
            <a:avLst/>
          </a:prstGeom>
          <a:ln w="0">
            <a:noFill/>
          </a:ln>
        </p:spPr>
      </p:pic>
      <p:pic>
        <p:nvPicPr>
          <p:cNvPr id="5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7 years o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upload.wikimedia.org/wikipedia/en/d/d7/7NumberSevenInCircle.png"/>
          <p:cNvPicPr/>
          <p:nvPr/>
        </p:nvPicPr>
        <p:blipFill>
          <a:blip r:embed="rId1"/>
          <a:srcRect l="0" t="12497" r="0" b="12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m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r mom is pin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3" descr="22261_happy_pink_monkey_with_a_white_belly_smiling_and_dancing.jpg"/>
          <p:cNvPicPr/>
          <p:nvPr/>
        </p:nvPicPr>
        <p:blipFill>
          <a:blip r:embed="rId1"/>
          <a:srcRect l="0" t="16334" r="0" b="1633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has a father to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2743200" y="1066680"/>
            <a:ext cx="4535640" cy="366084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828800" y="5029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r dad is </a:t>
            </a: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bluemonkeyrecycling.com/_wizardimages/Blue%20Monkey.JPG"/>
          <p:cNvPicPr/>
          <p:nvPr/>
        </p:nvPicPr>
        <p:blipFill>
          <a:blip r:embed="rId1"/>
          <a:srcRect l="0" t="23812" r="0" b="23812"/>
          <a:stretch/>
        </p:blipFill>
        <p:spPr>
          <a:xfrm>
            <a:off x="457200" y="304920"/>
            <a:ext cx="4840200" cy="431640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21:46Z</dcterms:created>
  <dc:creator>itsuser</dc:creator>
  <dc:description/>
  <dc:language>en-US</dc:language>
  <cp:lastModifiedBy>itsuser</cp:lastModifiedBy>
  <dcterms:modified xsi:type="dcterms:W3CDTF">2009-04-09T16:45:05Z</dcterms:modified>
  <cp:revision>9</cp:revision>
  <dc:subject/>
  <dc:title>The Purple Monkey</dc:title>
</cp:coreProperties>
</file>